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A728B-C4CB-4C15-9167-F4F477033F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4EB63-05C4-4DEC-A875-81151AA782A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74DBE-CA60-498E-B813-3BED8C4DE8D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69F80-5669-40CC-BA05-3D33776913B1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1646E-BDFC-4375-9ACE-E3EEE8BE93BB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8F480-7180-41D4-8FED-F934D6CDD55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3720E-CE88-465F-BAA7-4EC719778C9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EF24-0319-4639-AF00-372F235BC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32C8-6E74-4C95-8C73-13BF98372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7252-5E89-4C06-8D05-D6CACBE4C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12B8-195E-4BC5-AB52-FFFAABBE9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CD4F54-7894-4CF9-BCC6-D9DFD53F6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854F0D-C50B-4A8B-B789-DC9EE6423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2C8707-93D5-4A03-82FF-949810FE1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F233EF-761F-482D-B68B-CDACFCF53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CDFB31-B966-4183-9A7D-C85F2A60E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53C3E5-7FC6-469C-A7FD-A1504166A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8390BD-424A-4CE2-8322-D113150FD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50EC-335D-4C32-8F02-9E3E41297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835106-D7B3-497E-8454-9E52E6A9D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BF7366-2D5F-4014-9B55-A7C9E1D88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6318DB-16C7-4724-89B6-06CDAE3C7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F5986F-EFD2-4675-AFF7-BE63F7AEA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027CA1-8A86-4987-91F1-EDED4434F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74D0-613F-4BA4-BE5E-8DE397445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6819-50E5-464B-AA38-3110ADF0B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CC1E-CB96-4068-B0BB-D6F70146B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F126-C1BE-4E75-9B6E-1D968BDC8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B98D-F2FE-45B8-8C40-424C0CA3C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DD85-0171-4135-AC77-87E6A07CA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BB03-DF68-44F6-A8B4-DD76E7D7B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4FD19-55F0-400E-9EA9-6E0793F0FAD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CE78F-332C-4077-A2AA-2BE82589AC4D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360" y="1052280"/>
            <a:ext cx="7772400" cy="1431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Tahoma"/>
              </a:rPr>
              <a:t>the portfolio extension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Part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writing the repo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portfolio extension repor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4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Introduc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Criterion N (analysis of interview/s – easier if two interviews can be compared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Criterion O (reflection on interview applied to the portfolio – compare portfolio and interview/s and highlight new relationship/idea/perspective arising from the compariso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Criterion P (implications/recommendations arising from the synthesis of the interview and the portfolio in O – student’s own opinion on the ‘future’ of the issue 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4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many candidates used much of section N to “introduce” the issue and the interview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this does not add to the discussion and is ignored for assessment purpos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it is recommended that a preliminary, short section is used for this purpose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use the heading </a:t>
            </a:r>
            <a:r>
              <a:rPr b="0" i="1" lang="en-GB" sz="1800" spc="-1" strike="noStrike">
                <a:solidFill>
                  <a:srgbClr val="ffffff"/>
                </a:solidFill>
                <a:latin typeface="Tahoma"/>
              </a:rPr>
              <a:t>introducti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write no more than 100 word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tate briefly the issue, and the stakeholders, as identified in criterion C or 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tate the interviewee(s), and justify the qualification as a stakeholde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This 100 words will not count as part of the 1000 word maximum count. Anything over 100 words in the introduction WILL count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ahoma"/>
              </a:rPr>
              <a:t>Discussion/analysis of the interview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a summary of the interview scores zer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minimum level of discussion for 1 mark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at least </a:t>
            </a:r>
            <a:r>
              <a:rPr b="0" lang="en-GB" sz="2000" spc="-1" strike="noStrike">
                <a:solidFill>
                  <a:srgbClr val="ffcc00"/>
                </a:solidFill>
                <a:latin typeface="Tahoma"/>
              </a:rPr>
              <a:t>two key points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are identified in own wor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short quotes/references from the interview as </a:t>
            </a:r>
            <a:r>
              <a:rPr b="0" lang="en-GB" sz="2000" spc="-1" strike="noStrike">
                <a:solidFill>
                  <a:srgbClr val="ffcc00"/>
                </a:solidFill>
                <a:latin typeface="Tahoma"/>
              </a:rPr>
              <a:t>supporting examples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for each poin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next level (2 marks) also has some analys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has at least the two key points and examples, as abov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00"/>
                </a:solidFill>
                <a:latin typeface="Tahoma"/>
              </a:rPr>
              <a:t>grouping, contrasting/comparing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of view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this is clearly much easier with better interview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highest level (3 marks) shows a depth of analys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00"/>
                </a:solidFill>
                <a:latin typeface="Tahoma"/>
              </a:rPr>
              <a:t>explaining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the nature of the contrasts/comparisons, group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at least one supporting example for each key point explained as abov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a second interview could make this easi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000" y="115560"/>
            <a:ext cx="7931160" cy="104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ahoma"/>
              </a:rPr>
              <a:t>Reflection on the interview, with respect to the portfolio research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he reflection </a:t>
            </a:r>
            <a:r>
              <a:rPr b="0" lang="en-GB" sz="1600" spc="-1" strike="noStrike">
                <a:solidFill>
                  <a:srgbClr val="ffcc00"/>
                </a:solidFill>
                <a:latin typeface="Tahoma"/>
              </a:rPr>
              <a:t>MUST connect</a:t>
            </a: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 the interview(s) to the original portfolio research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0" lang="en-GB" sz="1600" spc="-1" strike="noStrike">
                <a:solidFill>
                  <a:srgbClr val="ffcc00"/>
                </a:solidFill>
                <a:latin typeface="Tahoma"/>
              </a:rPr>
              <a:t>interview</a:t>
            </a: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 must be </a:t>
            </a:r>
            <a:r>
              <a:rPr b="0" lang="en-GB" sz="1600" spc="-1" strike="noStrike">
                <a:solidFill>
                  <a:srgbClr val="ffcc00"/>
                </a:solidFill>
                <a:latin typeface="Tahoma"/>
              </a:rPr>
              <a:t>compared</a:t>
            </a: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 with the </a:t>
            </a:r>
            <a:r>
              <a:rPr b="0" lang="en-GB" sz="1600" spc="-1" strike="noStrike">
                <a:solidFill>
                  <a:srgbClr val="ffcc00"/>
                </a:solidFill>
                <a:latin typeface="Tahoma"/>
              </a:rPr>
              <a:t>portfolio</a:t>
            </a: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 at the basic 1 mark level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Tahoma"/>
              </a:rPr>
              <a:t>where did they agree?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Tahoma"/>
              </a:rPr>
              <a:t>where did they differ?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cc00"/>
                </a:solidFill>
                <a:latin typeface="Tahoma"/>
              </a:rPr>
              <a:t>supportive examples</a:t>
            </a: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 from the interview(s) </a:t>
            </a:r>
            <a:r>
              <a:rPr b="0" lang="en-GB" sz="1600" spc="-1" strike="noStrike">
                <a:solidFill>
                  <a:srgbClr val="ffcc00"/>
                </a:solidFill>
                <a:latin typeface="Tahoma"/>
              </a:rPr>
              <a:t>AND</a:t>
            </a: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 portfolio raises the mark to 2 – </a:t>
            </a:r>
            <a:r>
              <a:rPr b="0" lang="en-GB" sz="1600" spc="-1" strike="noStrike">
                <a:solidFill>
                  <a:srgbClr val="ffcc00"/>
                </a:solidFill>
                <a:latin typeface="Tahoma"/>
              </a:rPr>
              <a:t>explicit</a:t>
            </a: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1600" spc="-1" strike="noStrike">
                <a:solidFill>
                  <a:srgbClr val="ffcc00"/>
                </a:solidFill>
                <a:latin typeface="Tahoma"/>
              </a:rPr>
              <a:t>paraphrases or quote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For 3 marks, “extensive” reflection is needed. Usually </a:t>
            </a:r>
            <a:r>
              <a:rPr b="0" lang="en-GB" sz="1600" spc="-1" strike="noStrike">
                <a:solidFill>
                  <a:srgbClr val="ffcc00"/>
                </a:solidFill>
                <a:latin typeface="Tahoma"/>
              </a:rPr>
              <a:t>at least three different comparisons </a:t>
            </a: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with supportive examples from interview(s) </a:t>
            </a:r>
            <a:r>
              <a:rPr b="0" lang="en-GB" sz="1600" spc="-1" strike="noStrike">
                <a:solidFill>
                  <a:srgbClr val="ffcc00"/>
                </a:solidFill>
                <a:latin typeface="Tahoma"/>
              </a:rPr>
              <a:t>AND</a:t>
            </a: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 portfoli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For the highest mark of 4, a new “relationship” or new idea the student has learnt from the comparison and is </a:t>
            </a:r>
            <a:r>
              <a:rPr b="0" lang="en-GB" sz="1600" spc="-1" strike="noStrike">
                <a:solidFill>
                  <a:srgbClr val="ffcc00"/>
                </a:solidFill>
                <a:latin typeface="Tahoma"/>
              </a:rPr>
              <a:t>NOT mentioned</a:t>
            </a: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 in the interview(s) or portfolio must be established/explained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cc00"/>
                </a:solidFill>
                <a:latin typeface="Tahoma"/>
              </a:rPr>
              <a:t>‘</a:t>
            </a:r>
            <a:r>
              <a:rPr b="0" lang="en-GB" sz="1600" spc="-1" strike="noStrike">
                <a:solidFill>
                  <a:srgbClr val="ffcc00"/>
                </a:solidFill>
                <a:latin typeface="Tahoma"/>
              </a:rPr>
              <a:t>After comparing the interview(s) and the original portfolio my understanding of the issue/impacts/solutions is NOW changed/improved ……………….’</a:t>
            </a:r>
            <a:r>
              <a:rPr b="0" i="1" lang="en-GB" sz="1600" spc="-1" strike="noStrike">
                <a:solidFill>
                  <a:srgbClr val="ffcc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a different or changed perception of the importance/nature of an impact mentioned in the portfolio or interview(s)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a new appreciation of the side effect or evaluation of a possible solution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a new solution not considered in the portfolio piece or interview(s)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500"/>
                                        <p:tgtEl>
                                          <p:spTgt spid="9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9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9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7" dur="500"/>
                                        <p:tgtEl>
                                          <p:spTgt spid="9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04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ahoma"/>
              </a:rPr>
              <a:t>projection of broader implication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his should </a:t>
            </a:r>
            <a:r>
              <a:rPr b="0" lang="en-GB" sz="1800" spc="-1" strike="noStrike">
                <a:solidFill>
                  <a:srgbClr val="ffcc00"/>
                </a:solidFill>
                <a:latin typeface="Tahoma"/>
              </a:rPr>
              <a:t>not be a summary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of what has already been said and is </a:t>
            </a:r>
            <a:r>
              <a:rPr b="0" lang="en-GB" sz="1800" spc="-1" strike="noStrike">
                <a:solidFill>
                  <a:srgbClr val="ffcc00"/>
                </a:solidFill>
                <a:latin typeface="Tahoma"/>
              </a:rPr>
              <a:t>not a conclusi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t is the opportunity to look </a:t>
            </a:r>
            <a:r>
              <a:rPr b="0" lang="en-GB" sz="1800" spc="-1" strike="noStrike">
                <a:solidFill>
                  <a:srgbClr val="ffcc00"/>
                </a:solidFill>
                <a:latin typeface="Tahoma"/>
              </a:rPr>
              <a:t>beyond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what has been already said with </a:t>
            </a:r>
            <a:r>
              <a:rPr b="0" lang="en-GB" sz="1800" spc="-1" strike="noStrike">
                <a:solidFill>
                  <a:srgbClr val="ffcc00"/>
                </a:solidFill>
                <a:latin typeface="Tahoma"/>
              </a:rPr>
              <a:t>original thinking about the ‘future’ of the issue –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at </a:t>
            </a:r>
            <a:r>
              <a:rPr b="0" lang="en-GB" sz="1800" spc="-1" strike="noStrike">
                <a:solidFill>
                  <a:srgbClr val="ffcc00"/>
                </a:solidFill>
                <a:latin typeface="Tahoma"/>
              </a:rPr>
              <a:t>least two implications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should be discussed or at least </a:t>
            </a:r>
            <a:r>
              <a:rPr b="0" lang="en-GB" sz="1800" spc="-1" strike="noStrike">
                <a:solidFill>
                  <a:srgbClr val="ffcc00"/>
                </a:solidFill>
                <a:latin typeface="Tahoma"/>
              </a:rPr>
              <a:t>two detailed aspects of on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he student should give </a:t>
            </a:r>
            <a:r>
              <a:rPr b="0" lang="en-GB" sz="1800" spc="-1" strike="noStrike">
                <a:solidFill>
                  <a:srgbClr val="ffcc00"/>
                </a:solidFill>
                <a:latin typeface="Tahoma"/>
              </a:rPr>
              <a:t>his/her own opinion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– </a:t>
            </a:r>
            <a:r>
              <a:rPr b="0" lang="en-GB" sz="1800" spc="-1" strike="noStrike">
                <a:solidFill>
                  <a:srgbClr val="ffcc00"/>
                </a:solidFill>
                <a:latin typeface="Tahoma"/>
              </a:rPr>
              <a:t>‘In my opinion I think that …………….’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he opinion can be abou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cc00"/>
                </a:solidFill>
                <a:latin typeface="Tahoma"/>
              </a:rPr>
              <a:t>aspects/effects</a:t>
            </a: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 of the issue/solutions that have </a:t>
            </a:r>
            <a:r>
              <a:rPr b="0" lang="en-GB" sz="1600" spc="-1" strike="noStrike">
                <a:solidFill>
                  <a:srgbClr val="ffcc00"/>
                </a:solidFill>
                <a:latin typeface="Tahoma"/>
              </a:rPr>
              <a:t>not so far been foreseen</a:t>
            </a: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 in the previous criteria, interview(s) or portfoli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0" lang="en-GB" sz="1600" spc="-1" strike="noStrike">
                <a:solidFill>
                  <a:srgbClr val="ffcc00"/>
                </a:solidFill>
                <a:latin typeface="Tahoma"/>
              </a:rPr>
              <a:t>future implications</a:t>
            </a: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 for the situation involving the issue and the issue itself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cc00"/>
                </a:solidFill>
                <a:latin typeface="Tahoma"/>
              </a:rPr>
              <a:t>recommendations</a:t>
            </a: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 for the futur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cc00"/>
                </a:solidFill>
                <a:latin typeface="Tahoma"/>
              </a:rPr>
              <a:t>evaluations </a:t>
            </a: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of the  repercussions if the problem/s are solved or not solved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do </a:t>
            </a:r>
            <a:r>
              <a:rPr b="0" lang="en-GB" sz="1800" spc="-1" strike="noStrike">
                <a:solidFill>
                  <a:srgbClr val="ffcc00"/>
                </a:solidFill>
                <a:latin typeface="Tahoma"/>
              </a:rPr>
              <a:t>not repeat material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from previous criteria, the portfolio or interview(s) unless in support of </a:t>
            </a:r>
            <a:r>
              <a:rPr b="0" lang="en-GB" sz="1800" spc="-1" strike="noStrike">
                <a:solidFill>
                  <a:srgbClr val="ffcc00"/>
                </a:solidFill>
                <a:latin typeface="Tahoma"/>
              </a:rPr>
              <a:t>your opini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all of these </a:t>
            </a:r>
            <a:r>
              <a:rPr b="0" lang="en-GB" sz="1800" spc="-1" strike="noStrike">
                <a:solidFill>
                  <a:srgbClr val="ffcc00"/>
                </a:solidFill>
                <a:latin typeface="Tahoma"/>
              </a:rPr>
              <a:t>MUST be grounded securely with supportive examples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from both interviews </a:t>
            </a:r>
            <a:r>
              <a:rPr b="0" lang="en-GB" sz="1800" spc="-1" strike="noStrike">
                <a:solidFill>
                  <a:srgbClr val="ffcc00"/>
                </a:solidFill>
                <a:latin typeface="Tahoma"/>
              </a:rPr>
              <a:t>AND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portfolio – specific references and quot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1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6T23:37:50Z</dcterms:created>
  <dc:creator>John Oldfield</dc:creator>
  <dc:description/>
  <dc:language>en-US</dc:language>
  <cp:lastModifiedBy>pienaark</cp:lastModifiedBy>
  <dcterms:modified xsi:type="dcterms:W3CDTF">2010-07-13T06:51:19Z</dcterms:modified>
  <cp:revision>15</cp:revision>
  <dc:subject/>
  <dc:title>ITGS portfolios and extensions</dc:title>
</cp:coreProperties>
</file>